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4EB4-B5D6-48A3-B837-41DB3C6F4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3BCA-83F0-4238-B30B-71CA5C78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3720-7062-4F2A-B043-C329F87F3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E817-3DFF-4ED8-AE16-05376F5A6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7365-CEF6-4B47-8CA9-8910FCB3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6443-3293-47A3-BC4A-16441854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49F4-5147-4628-BC46-C56D4E98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14D0-D91C-4B34-85D7-717223EF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951A-AD4C-4FA2-92A8-70416C75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1A9C-1B02-4533-BFDE-83F7B675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24A2-4649-4B74-AB41-881EF4E5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03DA-0CCE-40B0-9710-6E7C0D48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C44B-8AB7-4D0B-A19F-B8290FB2F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I get a chart into my present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ck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slide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t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 L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645080" y="1600200"/>
          <a:ext cx="4027320" cy="451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5080" y="1600200"/>
                    <a:ext cx="4027320" cy="45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Point via Excel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type = Microsoft Excel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e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lect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 L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667400" y="2519280"/>
          <a:ext cx="4100400" cy="268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7400" y="2519280"/>
                    <a:ext cx="4100400" cy="26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ked to Excel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t Me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from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w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check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 L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114800" y="2962440"/>
            <a:ext cx="42894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workbook in Ex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 Cl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te spe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te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 L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48320" y="2808360"/>
            <a:ext cx="4038480" cy="21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13:35:22Z</dcterms:created>
  <dc:creator>klanders</dc:creator>
  <dc:description/>
  <dc:language>en-US</dc:language>
  <cp:lastModifiedBy>Riverview Intermediate Unit #6</cp:lastModifiedBy>
  <dcterms:modified xsi:type="dcterms:W3CDTF">2008-07-09T17:58:28Z</dcterms:modified>
  <cp:revision>8</cp:revision>
  <dc:subject/>
  <dc:title>How do I get a chart into my presentation?</dc:title>
</cp:coreProperties>
</file>